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3AD-A051-4517-BAC9-FFABA526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25B-13BE-4343-9AE0-78C8F0AF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950-D866-427B-85B8-7117BFD8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39E-9ED0-41CD-803F-617BA607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C9F4-5A3F-4E9B-A487-9BE2183B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F2AF-FB80-4B2B-A842-2DE99022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0269-6F3E-470A-B0EC-4DD668EE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D465-FEBE-473A-A969-3426CFEA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248B-E93D-40F6-AADB-3D743EBF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A3FB-3925-4CDF-B491-2F9B8CB1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C781-842E-4923-AE44-7CF5D199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6BC-3BE7-40F5-B26B-DF85C06B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868E-6AC0-4313-A90D-E339C288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C842-2E6B-49DB-95A8-52EC3741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74EC-FB53-4C63-8FDA-64E8BEA5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1D4D-6FB5-4D28-8567-7527E88C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8148-3605-4BE9-A7B7-E277C116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74F-E626-4A1C-AD3B-F2D23B87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20F-20F5-4C3D-B0A7-FCC8B7B3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13D-0CBE-492D-9DDA-44227A91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300-EBDB-44EF-832F-C7C28D11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1F7-7246-4D4F-ABC7-DF201B44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8FF-D08A-420F-B4E6-E7679B37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FD3-5E18-49FB-ABD3-0FD54EDA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1FD8-73B1-482C-9E26-A6B10BE2DB2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351E-4E75-4AE4-8874-7F632F370CB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e103"/>
                </a:solidFill>
                <a:uFillTx/>
                <a:latin typeface="Arial Black"/>
              </a:rPr>
              <a:t>Present Day Russi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Lucia Buzzell, Sacha Ivanov, and Hunter Weinberg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 Black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Russia is both a democracy and a federal republic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Power is divided between national and state governments with a president who leads the 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Government no longer sets prices on food or other good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</a:rPr>
              <a:t>Econom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Russia is a market econom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Higher prices make it harder to buy necessities like food and cloth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"/>
          <p:cNvSpPr/>
          <p:nvPr/>
        </p:nvSpPr>
        <p:spPr>
          <a:xfrm>
            <a:off x="-6858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 Black"/>
              </a:rPr>
              <a:t>Climate Types In Russi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TUNDR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Vast treeless plain in high latitude climates which is covered in ic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SUBARCTIC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attern of weather characterized by bitter winters and cool summer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HUMID CONTINENT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attern of weather characterized by cold long snowy winters and hot short summer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STEPP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ry grassland often found on the edges of a deser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 Black"/>
              </a:rPr>
              <a:t>Medical Issu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Life expectancy has fall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Rising number in both cancer and lung diseas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Pollution causes harm to Russia’s heal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Many Russians drink lots of vodka as if its wa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</a:rPr>
              <a:t>Daily Lif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Many Russians enjoy hiking, camping, and mountain climb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They also enjoy soccer, hockey, tennis, and che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 Black"/>
              </a:rPr>
              <a:t>Cul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90% of population speaks Russi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igh amount of ethnic group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35Z</dcterms:created>
  <dc:creator> </dc:creator>
  <dc:description/>
  <dc:language>en-US</dc:language>
  <cp:lastModifiedBy>Hunter</cp:lastModifiedBy>
  <dcterms:modified xsi:type="dcterms:W3CDTF">2010-12-15T03:54:22Z</dcterms:modified>
  <cp:revision>6</cp:revision>
  <dc:subject/>
  <dc:title>Present Day Russia</dc:title>
</cp:coreProperties>
</file>